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D3D-1BA5-48CB-AF46-1E4DBE07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5DA7-22CE-4CBF-A65C-2FF3D0BB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936A-4B80-4711-90A6-5E5CC297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DDB3-B9D6-40B7-B0EE-71CC3D93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2C3D-B9A5-4BEC-9644-498D612D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C832-404A-4FA4-8D87-B05BBC60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BEA8-492C-4A96-9730-EA514BF3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72DA-F94F-4E78-9C99-FA3E2E3D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286B-E233-4794-A6AA-4186ABBB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B60E-1FD2-44DA-B352-5EB18806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C378-6F30-4D33-8938-59D42642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D151-4252-4F6F-9172-82B3FA08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5B7B-EE16-471B-B65A-6271C6F88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l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: To be centered around a part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onym: spun rot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onyms: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llable Break: re-vo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Word: revo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ection: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87920" y="4114800"/>
            <a:ext cx="192888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ed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Making holy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aga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give 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4</cp:lastModifiedBy>
  <dcterms:modified xsi:type="dcterms:W3CDTF">2009-01-12T21:10:19Z</dcterms:modified>
  <cp:revision>1</cp:revision>
  <dc:subject/>
  <dc:title>PowerPoint Presentation</dc:title>
</cp:coreProperties>
</file>